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46F-9DA9-4941-B53D-9BDE2441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C21-CF97-4003-9955-A1DE90B2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228-AF9F-441D-955D-BBE00DF0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2FA-0D3A-4E96-9D0D-DD8D1765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336A-3B25-41D0-AF59-A34D0394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8D16-C201-4E64-A741-360532E4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23F3-4694-4663-A5B7-D2ECC46B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9DF4-E03D-48F5-B6E0-A2CA0156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F068-CFAB-44FB-93FA-C01299BB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DEAB-0C0B-4F8F-87CE-DA86D6A0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88DF-A988-47FE-BA86-9B72577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1BA-F47D-44EC-B26A-2D52552C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8126-18C8-4A86-B813-0671E1CB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02EB-B6A8-4843-9CA7-5221C85D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7C55-AB60-4CA0-A661-63AAA88D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CF1C-A72F-4698-9027-154BD22F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139E-5BF0-4D71-8C0A-BE98A173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02D-FAE9-4FDB-ADB4-4C423724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174-AF06-4B38-B8E4-2863FB43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799-49BD-42CD-976A-CEA45A66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84B-1312-4841-A6B9-52D3484D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A44-D2D0-45C5-848D-7AFC165B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264-11BF-4D74-A1D9-B699A59B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5E4-BACF-4FF0-870F-1F7527D5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18A9-9764-458A-916C-5943923581C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F3EE-43DE-4E2E-A23E-5B65B82C09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ИЗАЗВ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Н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Х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РПЕС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ВИРУС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Проф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др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Жељк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но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ч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ш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глав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ре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6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теж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су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ч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рек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тр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кре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патолош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пласт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орм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рект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естру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узим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ро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синтет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цес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уш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мрт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кокут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окрет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мунопатолошк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д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лтиформ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и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омбоцит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мијелинизирају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ерз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еопластич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нкоге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рансформа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ког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фаринге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јомиосар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ошије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уз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сцерал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нтр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рв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мунокомпромитован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особ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лоност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семин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и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шк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HERPES SIMPLEX VIRU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ф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м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инокиселин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вен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тивис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бр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н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пл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пат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к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4-4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г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лон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ген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иш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шејед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џиновск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нуклеус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уз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шир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ита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род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живот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олесцен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4.-29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60% (80%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-2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2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65-15%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рекид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ч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ш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об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   температу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еросол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гу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ш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оном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циден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окож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ирају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ет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центар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ио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оже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матоло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ре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лечењ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з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-1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циди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4-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-1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пи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нгивостом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атокоњунктив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ламациј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ita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54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реча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ем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семин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роф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фер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дефициј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ват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сцерал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о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г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со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ћ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ном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к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г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гемин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г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2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н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HERPESVIRUSI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5438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10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њ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ек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личи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еб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зис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им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љу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аз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pes simplex tip 1 i 2, Varicella-zoster, Cytomegalovirus, Epstein-Barr virus i humani herpes virusi 6, 7 i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де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ормон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з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сих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у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суп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ифуг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фе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continuita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мунопатолошк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зб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накр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е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ер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де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коге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ло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ли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тн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за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733920" y="1600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9036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пш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ок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екурирајућ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пш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т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окализ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у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л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руг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патогенетском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механизму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настан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1219320"/>
          <a:ext cx="8001000" cy="5175000"/>
        </p:xfrm>
        <a:graphic>
          <a:graphicData uri="http://schemas.openxmlformats.org/drawingml/2006/table">
            <a:tbl>
              <a:tblPr/>
              <a:tblGrid>
                <a:gridCol w="2174760"/>
                <a:gridCol w="2930400"/>
                <a:gridCol w="28958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курентна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rpes simplex virus tip 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ingivostoma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eratoconjunctiv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cephalitis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Herpes labial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Keratoconjunctiv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Encephalitis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9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rpes simplex virus tip 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ingivostoma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onatalni herpes mening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Proc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Perian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УКОКУТАН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A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рофарингеал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Ging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vost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mati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ti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s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herp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ica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seu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apht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фт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цер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и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м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рвени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ику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ук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зи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она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лез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ку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ск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б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ч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ференциј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ептокок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фт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Plaut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Vincent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ven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hnson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-о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295280" y="776160"/>
            <a:ext cx="7315200" cy="53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543800" cy="3047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2286000" y="3809880"/>
            <a:ext cx="54100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долесцен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р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ича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тивној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о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р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лабиј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herpes labialis seu febrili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у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уп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у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ри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лу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с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-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ас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окож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o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Građa i sasta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ли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уп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а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н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скоп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Језгро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гласт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ланч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Протеински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омотач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озаед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6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сом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клеокапси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ж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спољашњ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омотач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ич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б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отач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гликопротеински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шиљ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си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отач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орф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ек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етр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тегу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Гени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долесцен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лађ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њ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ку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цера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шкарц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а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е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гви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зур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г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г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е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ш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ж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курент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ерп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ије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з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Ц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ут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ку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руг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ја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топијс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ституциј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1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czema herpetic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хури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ц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олић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ш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2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Paronychia herpetic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5049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ОКУЛАРН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утоиноку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Једностран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фоликуларн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оњунктив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оналн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аде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кул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лефа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з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ератокоњунктивити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ер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ц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ндрит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и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ц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рне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о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Рекурент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ридоциклити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нуве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НЕОНАТАЛНИ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но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местр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з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ми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б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нич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те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нат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rpes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ce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лтиорга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дбубре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-80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СИМПЛЕ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ЕНЦЕФАЛИТИ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8380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рад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улт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тоанатом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ор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онтотемпор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ор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кц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мен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н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т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етент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и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и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тикул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ђућелијско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ив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ујућ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ад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ор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ст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јекцио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к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ети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инс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узим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пт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апти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о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електр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а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HSV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електронској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микроскопиј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225440" y="2432160"/>
            <a:ext cx="72262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обо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чн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а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уз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ф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минална аф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к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нерализова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пилептич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е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ли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еди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ниј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паре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пле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те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вул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ронт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жа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уз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т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ва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инктер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атентног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лепооч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гион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ждано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таб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ф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и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1 </a:t>
            </a:r>
            <a:r>
              <a:rPr b="1" lang="sr-Latn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g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о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5%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9%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т</a:t>
            </a:r>
            <a:r>
              <a:rPr b="1" lang="sr-RS" sz="20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серу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т</a:t>
            </a:r>
            <a:r>
              <a:rPr b="1" lang="sr-RS" sz="20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20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.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CR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СВДНК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ЕГ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Антиедемс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генац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изањ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глављ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пирањ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моторно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и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конвулзив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тол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росеми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пиретиц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0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Јединице</a:t>
            </a:r>
            <a:r>
              <a:rPr b="1" lang="sr-Latn-C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интезивног</a:t>
            </a:r>
            <a:r>
              <a:rPr b="1" lang="sr-Latn-C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лечењ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о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-9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-3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живе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о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екту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в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леп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ОСТАЛ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епт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нинг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ерз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труд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о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емин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утер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рем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т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ач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ртворође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уд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ирају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јал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к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гативан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љи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рш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ктивн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р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мунокомпромитованих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н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иотерап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пролифератив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штећ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м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уд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зофа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неумо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г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3581280" y="4267080"/>
            <a:ext cx="486000" cy="747720"/>
          </a:xfrm>
          <a:prstGeom prst="downArrow">
            <a:avLst>
              <a:gd name="adj1" fmla="val 50000"/>
              <a:gd name="adj2" fmla="val 38463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пат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фек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к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1-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окул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ти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џинов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нуклеус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уз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п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нч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из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ош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ј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б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цикл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0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-400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7-1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и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искористљив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алацикловир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енцикловир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фамцикл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фоскарн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0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ими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лак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ЦИТОМЕГАЛОВИРУС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козаедар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етр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воланч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не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љ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ук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оф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до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пи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цепт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љ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кроглобул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ртику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држ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нћелијс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ст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ектуј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ум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л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ланч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е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м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е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пепти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ств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ђ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тет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ли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з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мид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з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орпорис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In vitro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л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облас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ivo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з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ч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строинтестинал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ућ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креа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доте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ази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стич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к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нуклеус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плазматск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клу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нукле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у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виру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в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џинов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мегал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ћим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585960" cy="27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шир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ј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50-8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укуп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0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ор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звиј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пози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уч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з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е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Путеви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траутер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мес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ељ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на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рођенч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на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е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б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устр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колск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олесцен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расл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ив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ла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зофарин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н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-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рж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укоци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нус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бул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ес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ид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р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етен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маћ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апарент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ар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гоци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те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ет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ff00"/>
                </a:solidFill>
                <a:latin typeface="Times New Roman"/>
              </a:rPr>
              <a:t>Асимптомат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3300"/>
                </a:solidFill>
                <a:latin typeface="Times New Roman"/>
              </a:rPr>
              <a:t>Синдром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</a:rPr>
              <a:t>инфективне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</a:rPr>
              <a:t>мононукле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атолош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стик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могу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лик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ни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неуритис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синдром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Latn-RS" sz="2400" spc="-1" strike="noStrike">
                <a:solidFill>
                  <a:srgbClr val="ff66ff"/>
                </a:solidFill>
                <a:latin typeface="Times New Roman"/>
              </a:rPr>
              <a:t>Guilain-Barr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нејасно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фебрилно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стање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миокардитис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хемолизна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анемија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тромбо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моограничавај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д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ат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р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-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рођенч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бачај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р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ту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форм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нерализова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раг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733920" y="365760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енаталн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иоретинити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цефал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с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рп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љ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с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остај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во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на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ојч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ромит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штећ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лулар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оно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ко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плант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брил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ук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ј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офа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и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ес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к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испон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териј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љив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лош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ин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</a:rPr>
              <a:t>Алфахерпесвируси</a:t>
            </a:r>
            <a:r>
              <a:rPr b="1" lang="sr-Latn-CS" sz="24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ази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лиз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епител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фибробл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</a:rPr>
              <a:t>неуро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pes simplex viru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cella-zoster 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Бета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мегал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ив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бробл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утрофилим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ноц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megalo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хваћ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строинтестин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зофа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тер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и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CMV chorioreti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2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и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254304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поуз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честал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имптомат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ент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новр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зе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мегал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димен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р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ва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ункта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ренхим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г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поузд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мбрион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бробл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р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др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рв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р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к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ележ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кло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PC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ст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LIS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виру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ромитов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а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скарн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доф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ган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12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скарн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доф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тив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сл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лиш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ијатриј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љењ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даниш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школс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ик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овођ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гијен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нега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нега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нега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↑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пози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286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Epstein-Barr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вирусн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инфе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ИНФЕКТИВНА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ОНОНУКЛЕО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икулоендоте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атич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Epstein-Bar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ovim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иц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енств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б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пре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икации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уклеус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EBVN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(6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чет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а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BVE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з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ембран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BV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ављ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аз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нача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ављ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рускапсид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BVVC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IgM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еђ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Е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BVVCA Ig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0-90%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.-6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4.-20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ов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цонош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пози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гиоз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ш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б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здуш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љ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љуба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" descr="2caf9f36d57137476d1290e3b22c7549"/>
          <p:cNvPicPr/>
          <p:nvPr/>
        </p:nvPicPr>
        <p:blipFill>
          <a:blip r:embed="rId9"/>
          <a:stretch/>
        </p:blipFill>
        <p:spPr>
          <a:xfrm>
            <a:off x="6400800" y="2133720"/>
            <a:ext cx="1809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ринге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скре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5-2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ге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цоно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ча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јев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тич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пљ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посед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бо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з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иркул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ши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ретикул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</a:rPr>
              <a:t>Гама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аћ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њихо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ормациј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stein-Barr-ov v irus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mani herpes virusi 6 i 7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отро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ж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кокут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пролиферат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ж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K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C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ресор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токс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ж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кло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ножав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кона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упресор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хиби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токсич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ш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оки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љ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К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лектив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иј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др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драв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к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бађ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трај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т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Хистопатолошк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перпл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во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4-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-1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факт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о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066680" y="0"/>
          <a:ext cx="7543800" cy="67816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1" i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активирана</a:t>
                      </a:r>
                      <a:r>
                        <a:rPr b="1" i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симптоматск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ероконверз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Burkitt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имф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тив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ононуклеоз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Назофарингеал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карцин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ронич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тив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ононуклеоз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Рекурент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парот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типич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ЕБВ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имфопролиферативне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болест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X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ромозом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еза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имфопролифератив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индр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Интерстицијал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пнеумон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ениталне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улцерациј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Уве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емофагиоцит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индр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Орална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власаста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еукоплак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ојч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ч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имптомат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9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5-2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т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еудомембран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лизов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имфаден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изрази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р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к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чн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уларн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гландул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г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си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н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хеобронхиј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зентериј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ик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наж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рб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а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aglandov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кун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сеудомембраноз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лаг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нзил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р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зил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ер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ра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троф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зи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офаринге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стру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Angina confluens s. pseudomembranac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15080" y="1219320"/>
            <a:ext cx="392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Angina lacun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prostom02"/>
          <p:cNvPicPr/>
          <p:nvPr/>
        </p:nvPicPr>
        <p:blipFill>
          <a:blip r:embed="rId1"/>
          <a:stretch/>
        </p:blipFill>
        <p:spPr>
          <a:xfrm>
            <a:off x="762120" y="1447920"/>
            <a:ext cx="3429000" cy="244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Angina_atticus"/>
          <p:cNvPicPr/>
          <p:nvPr/>
        </p:nvPicPr>
        <p:blipFill>
          <a:blip r:embed="rId2"/>
          <a:stretch/>
        </p:blipFill>
        <p:spPr>
          <a:xfrm>
            <a:off x="4724280" y="1447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лен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5-2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ћ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п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зист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сталн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етехијални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нан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рд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кте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ул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рем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улопапул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пицил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валесцен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-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3429000" y="14479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мите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јед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инант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е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рингеал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гиноз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андулар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ифоид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пти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в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ниг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дрављ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иму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о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ди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окард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н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стиц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лм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стиц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у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значајни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ст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ћ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л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ц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ст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нзор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нг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omegalovirus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трофил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stein-Barr virus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љувач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лез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i herpes 6, 7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i herpes 8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трахромозом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мозом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г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Epstein-Bar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уптур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лез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фагоцит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нтролис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ар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гоци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гоцит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поет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етен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у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б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пту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лош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стру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фагоци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761760" y="75960"/>
            <a:ext cx="78483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с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р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иг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коге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фаринге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rkitt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dgkin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а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обољ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ј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coplasm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р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C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BN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66320" y="151920"/>
            <a:ext cx="7543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тразву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атолош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укоцит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ла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псол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тип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р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жаст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р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плаз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едопл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уолизи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уша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луен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б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хем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Д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ируб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фе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ути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кло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PC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бридизац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ступ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aul-Bunell-ov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глутин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чи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ит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зитив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85-90%)-4x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р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ма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0-1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sr-Latn-RS" sz="2400" spc="-1" strike="noStrike">
                <a:solidFill>
                  <a:srgbClr val="ffff00"/>
                </a:solidFill>
                <a:latin typeface="Times New Roman"/>
              </a:rPr>
              <a:t>VCA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RS" sz="2400" spc="-1" strike="noStrike">
                <a:solidFill>
                  <a:srgbClr val="ffff00"/>
                </a:solidFill>
                <a:latin typeface="Times New Roman"/>
              </a:rPr>
              <a:t>Ig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00"/>
                </a:solidFill>
                <a:latin typeface="Times New Roman"/>
              </a:rPr>
              <a:t>ELISA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ј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-4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2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ртикостерои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ткотрај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стр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иму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з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ал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п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пирет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хо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токс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ер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ега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пицил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ролид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био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т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трај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лаби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љашњ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пхо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и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ихо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љуба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оор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фуз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плант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33:31Z</dcterms:created>
  <dc:creator>MF</dc:creator>
  <dc:description/>
  <dc:language>en-US</dc:language>
  <cp:lastModifiedBy>Dr med</cp:lastModifiedBy>
  <dcterms:modified xsi:type="dcterms:W3CDTF">2022-08-30T21:55:33Z</dcterms:modified>
  <cp:revision>375</cp:revision>
  <dc:subject/>
  <dc:title>Slide 1</dc:title>
</cp:coreProperties>
</file>